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0B12-1D77-4110-90C1-D45C36D9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F700-174E-47FA-8963-2E9E5598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A756-4E71-40E9-AC9D-F1B82709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A0BC-AE10-4537-8309-9E5F96BF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7201-8BDE-403B-9690-8E1EA2D6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2FB-19C2-4265-9B2C-71B5D420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BDA-D78B-4303-8C09-E2336451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6BF-D7D0-465E-9668-D7471FD3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BA7E-7912-4429-A17D-E33C62D2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9DA9-A757-45F2-AAB6-0EC5B88B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E3DF-2599-469B-9D37-E2492322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9982-CFCF-48D1-BC2A-BB7E2348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06F2-8662-4CC0-A9B4-CC2BF1C9842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20160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د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وحدود الاستفادة من النسب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7873-7E11-44B0-8CD3-113DF4D94896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879480"/>
            <a:ext cx="7772760" cy="69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2421000"/>
            <a:ext cx="369720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رارات شراء أو بيع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ربحية والسي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2000" y="3747960"/>
            <a:ext cx="273672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ارباح المحققة (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EPS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ي الرب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3718080"/>
            <a:ext cx="2521080" cy="20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عائد الحقيقي لل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بلغ الموز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ة السوق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3716280"/>
            <a:ext cx="2592360" cy="20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5300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5720" y="4970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FBEC-75A8-48A8-9A6D-BFE2424C00E1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809640"/>
            <a:ext cx="7772760" cy="78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دائنون والبنو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514600"/>
            <a:ext cx="44654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مساعدة على منح الائتمان من عدم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3930480"/>
            <a:ext cx="7488360" cy="223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سب القروض الى حقوق المساهم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تداو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خز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دين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5BC5-8B33-4E9F-B447-03307414C7FF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985680"/>
            <a:ext cx="7772760" cy="716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دارة المنشأ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416320"/>
            <a:ext cx="7775280" cy="367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نصيب السهم من الأرب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العائد على حقوق الملك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قروض الى حقوق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رأس ال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اص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1E65-9040-4099-815D-EE98D7C2C5B3}" type="slidenum">
              <a:t>4</a:t>
            </a:fld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1275840"/>
            <a:ext cx="7772760" cy="71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احص الضري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900520"/>
            <a:ext cx="8001000" cy="2328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سترشاد بالنسب المالية للمساعدة على الاطمئنان الى صحة 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ص الرواتب ومقارنتها باجمالي الدخل ومقارنتها مع السنة الساب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131-936C-4016-9933-DF6B6F7D105B}" type="slidenum">
              <a:t>5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1956960"/>
            <a:ext cx="7772760" cy="740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429000"/>
            <a:ext cx="78483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اعدة في ابداء الرأ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3BE4-7311-47ED-B625-588C48087C12}" type="slidenum">
              <a:t>6</a:t>
            </a:fld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1915920"/>
            <a:ext cx="7772760" cy="7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خيرا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500280"/>
            <a:ext cx="777528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من النسب المالية في الت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ؤ بنجاح أو ف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9388-6E54-4DD6-B1B6-89B24E366249}" type="slidenum">
              <a:t>7</a:t>
            </a:fld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907920"/>
            <a:ext cx="7772400" cy="1081080"/>
          </a:xfrm>
          <a:prstGeom prst="downArrowCallout">
            <a:avLst>
              <a:gd name="adj1" fmla="val -177836"/>
              <a:gd name="adj2" fmla="val 179737"/>
              <a:gd name="adj3" fmla="val 16667"/>
              <a:gd name="adj4" fmla="val 6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استفادة من التحليل الم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2205000"/>
            <a:ext cx="7775280" cy="374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سياسات و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بيئ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حجم المشرو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صناع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طبيعة النسب المالية وتركيب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حلل المالي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ستفيدين من التحليل الم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6726-A927-4601-8194-8E0575583A3C}" type="slidenum">
              <a:t>8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57:27Z</dcterms:modified>
  <cp:revision>28</cp:revision>
  <dc:subject/>
  <dc:title>التحليل المالي والائتماني</dc:title>
</cp:coreProperties>
</file>